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4D75-193E-4034-876A-CFB7DEEB9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4A85-7C41-4F40-A031-38BE2DDB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BE2C-42F5-4287-84B8-3D128CD1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6705-D554-4127-B3BA-7E4E6A337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4EB8-2A16-4BA3-BE8C-5085C9F9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06CE-D4B8-44B7-A212-53224D60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19A7-4C66-45F6-8372-19EEF0E4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E5EC-6429-4E35-878B-5D563BC4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A2C3-7DA3-431E-8F2D-DA798A42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13CF-433B-4EB3-BBA0-8E1158BD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8A35-B2D6-47ED-A2F3-52EFBB5C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89B0-8B58-461E-9967-F8D2AF6A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5E1D-5C8E-4DCF-9C9F-FE772282F915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61 Hneď za rá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ha chváli kvietok mal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táčí spev i slnka svi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my chcme v Božom me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svojmu dielu vykroči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neď za rána chváľme Pán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kojný nám doprial se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mieme zase v rannom čas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ítať piesňou nový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ha chváli kvietok mal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táčí spev i slnka svi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my chcme v Božom me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svojmu dielu vykroč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mavou nocou svojou moco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i nad nami držal stráž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ovej sily, Pane mil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našej práci dať nám ráč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ha chváli kvietok mal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táčí spev i slnka svi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my chcme v Božom me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svojmu dielu vykroč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môž, Pane, odhodla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ráčať vpred, hoc ťaží kríž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tvrď vieru, veď nás k cieľ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aždú úzkosť duše stí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ha chváli kvietok mal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táčí spev i slnka svi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my chcme v Božom me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svojmu dielu vykroč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aj v žial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rak sa kal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ostaň s nami, Pane ná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, chlieb z neba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š, čo treb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len radosť srdcu dáš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20:14:41Z</dcterms:modified>
  <cp:revision>63</cp:revision>
  <dc:subject/>
  <dc:title>Je veľký náš Pán, on slávy je Kráľ Nech do všetkých strán  spev vrúcnych znie chvál.</dc:title>
</cp:coreProperties>
</file>